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4.jpeg" ContentType="image/jpeg"/>
  <Override PartName="/ppt/media/vader022.wav" ContentType="audio/x-wav"/>
  <Override PartName="/ppt/media/image25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obiwan.wav" ContentType="audio/x-wav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28.png" ContentType="image/pn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24B-7712-4E08-B896-9F65648F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6A2C-9884-42EB-BCD5-1EE0E14CB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7DC0-824A-46F4-97F1-592E6A582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from http://www.clipar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3138-8987-4017-84E7-CF4FE1A67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from http://www.clipar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1241-5016-4B21-877F-F0D6CBFEA4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uh.edu/engines/romanticism/barque-dante.jpg  [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Eugene Delacroix,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rque of Dante,” 1822 (150 Kb); oil on canvas, 189 x 242 cm (74 1/2 x 95 1/4"); Musee du Louvre, Paris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6DD-A0F4-4CBB-99F2-DCA52D700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71E-A1C4-42A4-8F34-4760EB74E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E3FA-B855-484A-B97B-F8BBD5645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forgottenoh.com/Drains/gates2.jpg; quotation from “The Hero with a Thousand Faces,” p. 9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466-D313-46CB-B414-DC9069A21D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opularmechanics.com/science/research/2001/11/science_solves_more_mysteries/images/lg_Jonah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966-58EF-4BC5-9DE7-88B7D8B2DC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from http://www.jcf.org/jcbio1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6D1-FF87-448B-A742-AE7C9FB0A5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s Vallejo, “Flying Serpent,” at http://www.borisjulie.com/details.cfm?Id=6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CBCB-72F3-470E-8A21-BD9DA27C9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60F-0C03-4D77-93D3-A0584788A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tigtail.org/TVM/X2/c.PImpressionism/moreau/M/moreau_hesiod+his_muse.189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90A6-795E-4313-BCFD-F4134C9E8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11,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F99-3328-40C2-90BD-7A65008F7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artrenewal.org/images/artists/b/Bouguereau_William/large/Naissance_de_Venu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4F42-2553-4615-BEBB-8CE9B43CF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774C-BC21-43A8-BC4D-5A0CA368C4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ydian"/>
              </a:rPr>
              <a:t>Herbert James Draper, </a:t>
            </a:r>
            <a:r>
              <a:rPr b="1" i="1" lang="en-US" sz="1200" spc="-1" strike="noStrike">
                <a:solidFill>
                  <a:srgbClr val="000000"/>
                </a:solidFill>
                <a:latin typeface="Lydian"/>
              </a:rPr>
              <a:t>Odysseus and the Sirens</a:t>
            </a:r>
            <a:r>
              <a:rPr b="0" lang="en-US" sz="1200" spc="-1" strike="noStrike">
                <a:solidFill>
                  <a:srgbClr val="000000"/>
                </a:solidFill>
                <a:latin typeface="Lydian"/>
              </a:rPr>
              <a:t>, 1909, now at the Ferens Art Gallery, Hull.  Picture from </a:t>
            </a:r>
            <a:r>
              <a:rPr b="1" i="1" lang="en-US" sz="1200" spc="-1" strike="noStrike">
                <a:solidFill>
                  <a:srgbClr val="000000"/>
                </a:solidFill>
                <a:latin typeface="Lydian"/>
              </a:rPr>
              <a:t>The Trojan War: An Illustrated Companion</a:t>
            </a:r>
            <a:r>
              <a:rPr b="0" lang="en-US" sz="1200" spc="-1" strike="noStrike">
                <a:solidFill>
                  <a:srgbClr val="000000"/>
                </a:solidFill>
                <a:latin typeface="Lydian"/>
              </a:rPr>
              <a:t>, at http://www.calliope.free-online.co.uk/odyssey/pic9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raeraffaeliten.de/bilder/Draper-Ulysses-and-Siren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79F2-9A93-4FD5-8DE9-A1B2C06A8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scholar.uwinnipeg.ca/courses/38/4500.6-001/Cosmology/time-goya-paintin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CC1-C1A1-4E8B-84FE-1D792759A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25AC-E532-4560-BADA-ECC4EBC647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ovieweb.com/movie/starwars/co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2B0-9693-413F-8FF0-2B049A35FB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39 The American Heritage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FE9-2F03-47CE-BD7A-87B3022493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texas.edu/courses/larrymyth/images/jason/GG-Jason-Dragon-Ros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EBA-3E57-4065-A75D-CF804D0E9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9487-1284-4058-9943-E4B6D4858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469B-9CBB-4B34-8F9A-8296B0C85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s Vallejo, “The Basilisk, from http://www.imaginistix.com/details.cfm?Id=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17FE-21D0-4DB6-8A2E-7C5A296C38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68E-6C17-43E8-88B0-CD50FE8CDC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s Vallejo, “Alien Visitor,” from http://www.imaginistix.com/details.cfm?Id=7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172D-9F08-4CCB-B053-792C9B723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21D-AD23-4602-A584-C1AA53E2FF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1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8EA-7AB8-47DD-9984-5BAB09E378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9A66-6A10-425A-909B-17A40D783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9F3-2DA1-431C-BF5B-A2173C3C94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from http://www.amra.pl/star/2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1799-2EA3-4863-AB0C-8A62389F0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from http://www.mythsdreamssymbols.com/images/joe.gif; quotation from “The Hero with a Thousand Faces,” p. 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969-1C54-4B1C-A948-3E5B7D630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mg-fan.theonering.net/rolozo/images/howe/gandalf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C1CB-BE44-46D8-A9E6-5CA22C464B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ation from “The Hero with a Thousand Faces,” p.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1D5-4F8F-4B3E-A455-4B711D12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21A-76DA-4D90-9181-CD2B68A4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35C-92FD-4B49-95B4-B4B51F1B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1BD-9395-4699-A5E1-CFDD5100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E9B-A649-4820-B2C5-BF147975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4FF-B2EB-46A6-A992-6C76DA07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12C-8182-403F-8E27-EF2CB221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9F5-F644-454F-B94F-E316C48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CF3-3B16-45BC-81E8-3B9EB55F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87F-81A6-4845-91D6-B505AFA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CF0-E263-42AC-B409-49E002A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19E-6DA5-45C8-AC1E-8486C35B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8520" indent="-282600">
              <a:spcBef>
                <a:spcPts val="799"/>
              </a:spcBef>
              <a:buSzPct val="107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8800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0B69-D696-4171-8483-6744C8A56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youtube.com/watch?v=ysFhDfGwbys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vader02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obiwa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09720"/>
            <a:ext cx="8229600" cy="3238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6fa9c"/>
                </a:solidFill>
                <a:uFillTx/>
                <a:latin typeface="Arial Black"/>
              </a:rPr>
              <a:t>The Hero Cycle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ampbell01"/>
          <p:cNvPicPr/>
          <p:nvPr/>
        </p:nvPicPr>
        <p:blipFill>
          <a:blip r:embed="rId1"/>
          <a:stretch/>
        </p:blipFill>
        <p:spPr>
          <a:xfrm>
            <a:off x="0" y="246204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609480" y="533520"/>
            <a:ext cx="784872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efusal of the call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55560" y="2280240"/>
            <a:ext cx="3175560" cy="366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fu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ssentially a refusal t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give 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one takes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ne’s own 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unning01a"/>
          <p:cNvPicPr/>
          <p:nvPr/>
        </p:nvPicPr>
        <p:blipFill>
          <a:blip r:embed="rId1"/>
          <a:stretch/>
        </p:blipFill>
        <p:spPr>
          <a:xfrm>
            <a:off x="0" y="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469480" y="3521520"/>
            <a:ext cx="3386880" cy="2328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Wha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You want me to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le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ive up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all this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wasteland"/>
          <p:cNvPicPr/>
          <p:nvPr/>
        </p:nvPicPr>
        <p:blipFill>
          <a:blip r:embed="rId1"/>
          <a:srcRect l="5223" t="0" r="522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9c"/>
                </a:solidFill>
                <a:latin typeface="Arial Black"/>
              </a:rPr>
              <a:t>Do you want your life to be this,  a wasteland of dry stones?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lowers"/>
          <p:cNvPicPr/>
          <p:nvPr/>
        </p:nvPicPr>
        <p:blipFill>
          <a:blip r:embed="rId1"/>
          <a:srcRect l="5223" t="0" r="522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066680" y="952560"/>
            <a:ext cx="701064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9c"/>
                </a:solidFill>
                <a:latin typeface="Arial Black"/>
              </a:rPr>
              <a:t>… </a:t>
            </a:r>
            <a:r>
              <a:rPr b="0" lang="en-US" sz="6000" spc="-1" strike="noStrike">
                <a:solidFill>
                  <a:srgbClr val="f6fa9c"/>
                </a:solidFill>
                <a:latin typeface="Arial Black"/>
              </a:rPr>
              <a:t>Or do you want your life to be this, a flowering worl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3581280" cy="16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6fa9c"/>
                </a:solidFill>
                <a:uFillTx/>
                <a:latin typeface="Arial Black"/>
              </a:rPr>
              <a:t>Stage 3: Super-natural Ai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[but not always]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ascu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a wizard, hermit, shepherd,or smith—someon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eriphe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mul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d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he hero will require t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dante03"/>
          <p:cNvPicPr/>
          <p:nvPr/>
        </p:nvPicPr>
        <p:blipFill>
          <a:blip r:embed="rId4"/>
          <a:srcRect l="5978" t="12229" r="41711" b="0"/>
          <a:stretch/>
        </p:blipFill>
        <p:spPr>
          <a:xfrm>
            <a:off x="4079880" y="495360"/>
            <a:ext cx="46832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ampbell03"/>
          <p:cNvPicPr/>
          <p:nvPr/>
        </p:nvPicPr>
        <p:blipFill>
          <a:blip r:embed="rId1"/>
          <a:srcRect l="5554" t="7101" r="59265" b="12584"/>
          <a:stretch/>
        </p:blipFill>
        <p:spPr>
          <a:xfrm>
            <a:off x="6504120" y="2438280"/>
            <a:ext cx="2639880" cy="4419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5800" y="533520"/>
            <a:ext cx="777240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supernatural ai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78680" y="2076840"/>
            <a:ext cx="4233600" cy="43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ose who hav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used the call,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irst encou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is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otective fig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who provides the adventurer with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amu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ainst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dragon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is about to pa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woman kicking 2"/>
          <p:cNvPicPr/>
          <p:nvPr/>
        </p:nvPicPr>
        <p:blipFill>
          <a:blip r:embed="rId2"/>
          <a:stretch/>
        </p:blipFill>
        <p:spPr>
          <a:xfrm>
            <a:off x="5989680" y="1219320"/>
            <a:ext cx="216360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304920" y="1600200"/>
            <a:ext cx="2666880" cy="685800"/>
          </a:xfrm>
          <a:prstGeom prst="rightArrowCallout">
            <a:avLst>
              <a:gd name="adj1" fmla="val 17131"/>
              <a:gd name="adj2" fmla="val 29398"/>
              <a:gd name="adj3" fmla="val 57124"/>
              <a:gd name="adj4" fmla="val 75375"/>
            </a:avLst>
          </a:prstGeom>
          <a:solidFill>
            <a:srgbClr val="8ca93e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80880" y="2590920"/>
            <a:ext cx="8382240" cy="4190760"/>
          </a:xfrm>
          <a:prstGeom prst="pi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6fa9c"/>
                </a:solidFill>
                <a:latin typeface="Arial Black"/>
              </a:rPr>
              <a:t>Great Unknow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40" y="152280"/>
            <a:ext cx="87631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Stage 4:</a:t>
            </a:r>
            <a:br>
              <a:rPr sz="2800"/>
            </a:b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Crossing of the First Thresho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Oval 3"/>
          <p:cNvSpPr/>
          <p:nvPr/>
        </p:nvSpPr>
        <p:spPr>
          <a:xfrm>
            <a:off x="3124080" y="1371600"/>
            <a:ext cx="2895840" cy="1166760"/>
          </a:xfrm>
          <a:prstGeom prst="ellipse">
            <a:avLst/>
          </a:prstGeom>
          <a:solidFill>
            <a:srgbClr val="8ca93e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Sphere of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7620120" y="2476440"/>
            <a:ext cx="1301760" cy="1905120"/>
          </a:xfrm>
          <a:prstGeom prst="wedgeRoundRectCallout">
            <a:avLst>
              <a:gd name="adj1" fmla="val -125486"/>
              <a:gd name="adj2" fmla="val -94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s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ut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1714680"/>
            <a:ext cx="1967040" cy="5143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838080" y="457200"/>
            <a:ext cx="746784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crossing of the first threshol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84160" y="2057400"/>
            <a:ext cx="35280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ro goes forward in his adventure until he comes to …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ntrance zone of magnified pow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yond … i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ark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an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ellyofwhale01"/>
          <p:cNvPicPr/>
          <p:nvPr/>
        </p:nvPicPr>
        <p:blipFill>
          <a:blip r:embed="rId1"/>
          <a:srcRect l="10270" t="5370" r="75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162560" cy="281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a9c"/>
                </a:solidFill>
                <a:latin typeface="Arial Black"/>
              </a:rPr>
              <a:t>Campbell says, “The hero … is swallowed into the unknown, and would appear to have died.”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32767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5: The Belly of the Wha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ing the threshold is a form of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elf-annihilati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be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he adventure, where the rules ar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ro is to b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born ag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ndergo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etamorph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hed his old character for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new 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jonah01">
            <a:hlinkClick r:id="rId4"/>
          </p:cNvPr>
          <p:cNvPicPr/>
          <p:nvPr/>
        </p:nvPicPr>
        <p:blipFill>
          <a:blip r:embed="rId5"/>
          <a:srcRect l="0" t="3704" r="23929" b="0"/>
          <a:stretch/>
        </p:blipFill>
        <p:spPr>
          <a:xfrm>
            <a:off x="4029120" y="380880"/>
            <a:ext cx="45813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34290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6fa9c"/>
                </a:solidFill>
                <a:uFillTx/>
                <a:latin typeface="Arial Black"/>
              </a:rPr>
              <a:t>Joseph Camp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600" y="17524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4 –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thologist, college professor, auth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bell’s big contribution: 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definition of a h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from mythical to ordinary human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 with specific stages,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ost of whi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otential hero will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jchead"/>
          <p:cNvPicPr/>
          <p:nvPr/>
        </p:nvPicPr>
        <p:blipFill>
          <a:blip r:embed="rId5"/>
          <a:srcRect l="0" t="0" r="3837" b="0"/>
          <a:stretch/>
        </p:blipFill>
        <p:spPr>
          <a:xfrm>
            <a:off x="439560" y="457200"/>
            <a:ext cx="405612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07696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cond Major Section of the Cycle</a:t>
            </a:r>
            <a:br>
              <a:rPr sz="8000"/>
            </a:br>
            <a:r>
              <a:rPr b="0" lang="en-US" sz="8000" spc="-1" strike="noStrike" u="sng">
                <a:solidFill>
                  <a:srgbClr val="f6fa9c"/>
                </a:solidFill>
                <a:uFillTx/>
                <a:latin typeface="Arial Black"/>
              </a:rPr>
              <a:t>Initiation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05520" y="456840"/>
            <a:ext cx="35812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6: The Road of Tri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ro must put aside pride, virtue, beauty, and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ust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b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ubm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bsolutely intol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ons must be slain, victories won, barriers passed, ecstasies experienced, etc.--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usually in series of th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dragon"/>
          <p:cNvPicPr/>
          <p:nvPr/>
        </p:nvPicPr>
        <p:blipFill>
          <a:blip r:embed="rId4"/>
          <a:srcRect l="13565" t="0" r="2975" b="1407"/>
          <a:stretch/>
        </p:blipFill>
        <p:spPr>
          <a:xfrm>
            <a:off x="457200" y="495360"/>
            <a:ext cx="447048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ampbell01"/>
          <p:cNvPicPr/>
          <p:nvPr/>
        </p:nvPicPr>
        <p:blipFill>
          <a:blip r:embed="rId1"/>
          <a:stretch/>
        </p:blipFill>
        <p:spPr>
          <a:xfrm>
            <a:off x="0" y="246204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09480" y="533520"/>
            <a:ext cx="792504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oad of trial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07720" y="2205000"/>
            <a:ext cx="3034080" cy="370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having traversed the threshold, the hero … must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urv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ccess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7: </a:t>
            </a:r>
            <a:br>
              <a:rPr sz="3200"/>
            </a:b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Meeting with</a:t>
            </a:r>
            <a:br>
              <a:rPr sz="3200"/>
            </a:b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 the Godd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SzPct val="179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ually depicted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you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/or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beautifu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SzPct val="179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ches the hero an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important less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SzPct val="179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es not have to be a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goddess</a:t>
            </a: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such as the Greek Athena or the Egyptian Isis].  Any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strong fema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f6fa9c"/>
                </a:solidFill>
                <a:latin typeface="Arial Black"/>
              </a:rPr>
              <a:t>feminine for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eets the requirements for this sta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goddess01"/>
          <p:cNvPicPr/>
          <p:nvPr/>
        </p:nvPicPr>
        <p:blipFill>
          <a:blip r:embed="rId4">
            <a:lum contrast="12000"/>
          </a:blip>
          <a:srcRect l="0" t="3447" r="0" b="0"/>
          <a:stretch/>
        </p:blipFill>
        <p:spPr>
          <a:xfrm>
            <a:off x="638280" y="380880"/>
            <a:ext cx="3628800" cy="60962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461280" y="1981080"/>
            <a:ext cx="2682720" cy="480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38720" y="2277000"/>
            <a:ext cx="3246120" cy="359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he goddess] is the incarn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om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erf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.  She … guides [the hero] t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burst his fet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457200"/>
            <a:ext cx="7696080" cy="14479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meeting with the goddes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4114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8: Woman as Temp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an is the metaphor for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hys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aterial tempt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mptation tries to lead the hero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path of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woman” can be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fe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trong feminine fo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temp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ing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l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comf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/or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lack of spiritu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Naissance_de_Venus"/>
          <p:cNvPicPr/>
          <p:nvPr/>
        </p:nvPicPr>
        <p:blipFill>
          <a:blip r:embed="rId4"/>
          <a:srcRect l="2513" t="0" r="1690" b="0"/>
          <a:stretch/>
        </p:blipFill>
        <p:spPr>
          <a:xfrm>
            <a:off x="4648320" y="380880"/>
            <a:ext cx="40845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929280" y="2819520"/>
            <a:ext cx="2214720" cy="396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083600" y="2215080"/>
            <a:ext cx="42336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monastery walls, … not even the remoteness of the desert, can defend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emale pres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for as long as the [hero’s] flesh clings to his bones and pulses warm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mages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lert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t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09480" y="457200"/>
            <a:ext cx="784872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woman as temptres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raper-Ulysses-and-Sirens"/>
          <p:cNvPicPr/>
          <p:nvPr/>
        </p:nvPicPr>
        <p:blipFill>
          <a:blip r:embed="rId1"/>
          <a:srcRect l="13060" t="11675" r="2437" b="103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75960"/>
            <a:ext cx="8458200" cy="53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a93e"/>
                </a:solidFill>
                <a:latin typeface="Arial Black"/>
              </a:rPr>
              <a:t>Woman as Temptress: Sire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19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Stage 9:</a:t>
            </a:r>
            <a:br>
              <a:rPr sz="2800"/>
            </a:b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Atonement with the Fath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onement = </a:t>
            </a:r>
            <a:r>
              <a:rPr b="0" lang="en-US" sz="2100" spc="-1" strike="noStrike">
                <a:solidFill>
                  <a:srgbClr val="f6fa9c"/>
                </a:solidFill>
                <a:latin typeface="Arial Black"/>
              </a:rPr>
              <a:t>at</a:t>
            </a: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6fa9c"/>
                </a:solidFill>
                <a:latin typeface="Arial Black"/>
              </a:rPr>
              <a:t>one</a:t>
            </a: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100" spc="-1" strike="noStrike">
                <a:solidFill>
                  <a:srgbClr val="f6fa9c"/>
                </a:solidFill>
                <a:latin typeface="Arial Black"/>
              </a:rPr>
              <a:t>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hero encounters his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biological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father, a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father figur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strong male presen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 or someone or something with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incredible pow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 first, the “father” represents what the hero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despis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disagre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it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524"/>
              </a:spcBef>
              <a:buSzPct val="1233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hero is killed during the encounter--either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literall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symbolicall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-so that a </a:t>
            </a:r>
            <a:r>
              <a:rPr b="0" i="1" lang="en-US" sz="2100" spc="-1" strike="noStrike">
                <a:solidFill>
                  <a:srgbClr val="f6fa9c"/>
                </a:solidFill>
                <a:latin typeface="Arial Black"/>
              </a:rPr>
              <a:t>new self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can come into be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time-goya-painting"/>
          <p:cNvPicPr/>
          <p:nvPr/>
        </p:nvPicPr>
        <p:blipFill>
          <a:blip r:embed="rId5"/>
          <a:srcRect l="0" t="0" r="6895" b="0"/>
          <a:stretch/>
        </p:blipFill>
        <p:spPr>
          <a:xfrm>
            <a:off x="4800600" y="304920"/>
            <a:ext cx="394956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721400" y="2217600"/>
            <a:ext cx="3739680" cy="402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new elem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ival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icture: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ainst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f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t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62120" y="533520"/>
            <a:ext cx="7619760" cy="121896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atonement with the fath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he_hero_with_a_thousand_faces"/>
          <p:cNvPicPr/>
          <p:nvPr/>
        </p:nvPicPr>
        <p:blipFill>
          <a:blip r:embed="rId1"/>
          <a:stretch/>
        </p:blipFill>
        <p:spPr>
          <a:xfrm>
            <a:off x="2479680" y="152280"/>
            <a:ext cx="4183200" cy="656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darthvader&amp;lukeskywalker"/>
          <p:cNvPicPr/>
          <p:nvPr/>
        </p:nvPicPr>
        <p:blipFill>
          <a:blip r:embed="rId1"/>
          <a:srcRect l="6520" t="2173" r="65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Eventually, Luke realizes that his father and he share the same potential to be evil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ader0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67360" y="609480"/>
            <a:ext cx="3543120" cy="563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6fa9c"/>
                </a:solidFill>
                <a:uFillTx/>
                <a:latin typeface="Arial Black"/>
              </a:rPr>
              <a:t>apotheosi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n.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Exaltation to divine rank or stature; deification; Stage 1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Picture 3" descr="Lokisflight2"/>
          <p:cNvPicPr/>
          <p:nvPr/>
        </p:nvPicPr>
        <p:blipFill>
          <a:blip r:embed="rId1"/>
          <a:stretch/>
        </p:blipFill>
        <p:spPr>
          <a:xfrm>
            <a:off x="647640" y="590400"/>
            <a:ext cx="4152960" cy="567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335268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Stage 11:</a:t>
            </a:r>
            <a:br>
              <a:rPr sz="3200"/>
            </a:b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The Ultimate Bo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revious steps hav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repa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purifi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hero for the b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difficult tas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ccomplished with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great 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on is sometimes the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go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adventure--a magical elixir, the holy grail, a golden flee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goldenfleece"/>
          <p:cNvPicPr/>
          <p:nvPr/>
        </p:nvPicPr>
        <p:blipFill>
          <a:blip r:embed="rId4"/>
          <a:srcRect l="-829" t="147" r="-1814" b="223"/>
          <a:stretch/>
        </p:blipFill>
        <p:spPr>
          <a:xfrm>
            <a:off x="3997440" y="533520"/>
            <a:ext cx="499428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ampbell01"/>
          <p:cNvPicPr/>
          <p:nvPr/>
        </p:nvPicPr>
        <p:blipFill>
          <a:blip r:embed="rId1"/>
          <a:stretch/>
        </p:blipFill>
        <p:spPr>
          <a:xfrm>
            <a:off x="0" y="228600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723960" y="609480"/>
            <a:ext cx="769608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the ultimate bo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27280" y="2220480"/>
            <a:ext cx="4022280" cy="4092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which the adventure is her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ccomp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es that the hero is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uperior 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orn 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ere the usual hero would face a test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unter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o delaying obsta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akes no mist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38224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rd Major Section of the Cycle</a:t>
            </a:r>
            <a:br>
              <a:rPr sz="4800"/>
            </a:br>
            <a:r>
              <a:rPr b="0" lang="en-US" sz="6600" spc="-1" strike="noStrike" u="sng">
                <a:solidFill>
                  <a:srgbClr val="f6fa9c"/>
                </a:solidFill>
                <a:uFillTx/>
                <a:latin typeface="Arial Black"/>
              </a:rPr>
              <a:t>R e t u r n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172200" y="2057400"/>
            <a:ext cx="268272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049760" y="2711880"/>
            <a:ext cx="3386880" cy="30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ro-quest requires that the her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responsibility has been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requently ref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09480" y="609480"/>
            <a:ext cx="7925040" cy="14479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2,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efusal of the retur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omps-i11[1]"/>
          <p:cNvPicPr/>
          <p:nvPr/>
        </p:nvPicPr>
        <p:blipFill>
          <a:blip r:embed="rId1"/>
          <a:srcRect l="0" t="15797" r="0" b="23268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74280" y="4232880"/>
            <a:ext cx="31755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Wha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Leave all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his fu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427280" y="2355840"/>
            <a:ext cx="4022280" cy="366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inal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[the hero’s] adven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suppor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ll the powers of his supernatural patron … or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omplic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… magical obstruction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3,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magical fligh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omps-i11[1]"/>
          <p:cNvPicPr/>
          <p:nvPr/>
        </p:nvPicPr>
        <p:blipFill>
          <a:blip r:embed="rId1"/>
          <a:srcRect l="6102" t="0" r="2293" b="0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6fa9c"/>
                </a:solidFill>
                <a:uFillTx/>
                <a:latin typeface="Arial Black"/>
              </a:rPr>
              <a:t>Magical Flight:</a:t>
            </a: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Helped or Hindered by Supernatural Pow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ampbell01"/>
          <p:cNvPicPr/>
          <p:nvPr/>
        </p:nvPicPr>
        <p:blipFill>
          <a:blip r:embed="rId1"/>
          <a:stretch/>
        </p:blipFill>
        <p:spPr>
          <a:xfrm>
            <a:off x="4572000" y="2462040"/>
            <a:ext cx="3365640" cy="4395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181880" y="2150280"/>
            <a:ext cx="2893320" cy="4233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may have t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ome and get h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ociety is jealous of those who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emain away from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will come knocking at the door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480" y="457200"/>
            <a:ext cx="788688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4,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rescue from withou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31520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First Major Section of the Cycle</a:t>
            </a:r>
            <a:br>
              <a:rPr sz="7200"/>
            </a:br>
            <a:r>
              <a:rPr b="0" lang="en-US" sz="7200" spc="-1" strike="noStrike" u="sng">
                <a:solidFill>
                  <a:srgbClr val="f6fa9c"/>
                </a:solidFill>
                <a:uFillTx/>
                <a:latin typeface="Arial Black"/>
              </a:rPr>
              <a:t>Departure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5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Stage 15:</a:t>
            </a:r>
            <a:br>
              <a:rPr sz="2800"/>
            </a:br>
            <a:r>
              <a:rPr b="0" lang="en-US" sz="2800" spc="-1" strike="noStrike" u="sng">
                <a:solidFill>
                  <a:srgbClr val="f6fa9c"/>
                </a:solidFill>
                <a:uFillTx/>
                <a:latin typeface="Arial Black"/>
              </a:rPr>
              <a:t>The Crossing of the Return Thresho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657600" y="1631880"/>
            <a:ext cx="2590920" cy="995400"/>
          </a:xfrm>
          <a:prstGeom prst="ellipse">
            <a:avLst/>
          </a:prstGeom>
          <a:solidFill>
            <a:srgbClr val="8ca93e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ld Sphere of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04920" y="3124080"/>
            <a:ext cx="8534160" cy="3581640"/>
          </a:xfrm>
          <a:prstGeom prst="pi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The Now </a:t>
            </a:r>
            <a:r>
              <a:rPr b="0" i="1" lang="en-US" sz="4000" spc="-1" strike="noStrike" u="sng">
                <a:solidFill>
                  <a:srgbClr val="8ca93e"/>
                </a:solidFill>
                <a:uFillTx/>
                <a:latin typeface="Arial Black"/>
              </a:rPr>
              <a:t>Known</a:t>
            </a: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 Un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33520" y="1523880"/>
            <a:ext cx="3502080" cy="989640"/>
          </a:xfrm>
          <a:prstGeom prst="pie">
            <a:avLst/>
          </a:prstGeom>
          <a:solidFill>
            <a:srgbClr val="000000"/>
          </a:solidFill>
          <a:ln w="28440">
            <a:solidFill>
              <a:srgbClr val="8c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a9c"/>
                </a:solidFill>
                <a:latin typeface="Arial Black"/>
              </a:rPr>
              <a:t>Hero’s Reent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woman kicking"/>
          <p:cNvPicPr/>
          <p:nvPr/>
        </p:nvPicPr>
        <p:blipFill>
          <a:blip r:embed="rId1"/>
          <a:stretch/>
        </p:blipFill>
        <p:spPr>
          <a:xfrm>
            <a:off x="7147080" y="1523880"/>
            <a:ext cx="1311120" cy="25624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8"/>
          <p:cNvSpPr/>
          <p:nvPr/>
        </p:nvSpPr>
        <p:spPr>
          <a:xfrm>
            <a:off x="5791320" y="1295280"/>
            <a:ext cx="1295280" cy="1143000"/>
          </a:xfrm>
          <a:prstGeom prst="wedgeRoundRectCallout">
            <a:avLst>
              <a:gd name="adj1" fmla="val 98407"/>
              <a:gd name="adj2" fmla="val 694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c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ampbell03"/>
          <p:cNvPicPr/>
          <p:nvPr/>
        </p:nvPicPr>
        <p:blipFill>
          <a:blip r:embed="rId1">
            <a:lum bright="-6000"/>
          </a:blip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79080" y="2415240"/>
            <a:ext cx="4233600" cy="32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[must] re-enter … where men who ar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fr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agine themselves to b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85800" y="380880"/>
            <a:ext cx="7772400" cy="12193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crossing the return threshold</a:t>
            </a: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ampbell03"/>
          <p:cNvPicPr/>
          <p:nvPr/>
        </p:nvPicPr>
        <p:blipFill>
          <a:blip r:embed="rId1"/>
          <a:srcRect l="5554" t="7101" r="59265" b="7044"/>
          <a:stretch/>
        </p:blipFill>
        <p:spPr>
          <a:xfrm>
            <a:off x="6172200" y="1828800"/>
            <a:ext cx="281160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95240" y="2361960"/>
            <a:ext cx="27522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to pass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f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the world division …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ma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609480"/>
            <a:ext cx="7925040" cy="137160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6,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freedom to liv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05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woman kicking 1"/>
          <p:cNvPicPr/>
          <p:nvPr/>
        </p:nvPicPr>
        <p:blipFill>
          <a:blip r:embed="rId1"/>
          <a:stretch/>
        </p:blipFill>
        <p:spPr>
          <a:xfrm>
            <a:off x="6467400" y="942840"/>
            <a:ext cx="1381320" cy="2714760"/>
          </a:xfrm>
          <a:prstGeom prst="rect">
            <a:avLst/>
          </a:prstGeom>
          <a:ln w="0">
            <a:noFill/>
          </a:ln>
        </p:spPr>
      </p:pic>
      <p:sp>
        <p:nvSpPr>
          <p:cNvPr id="158" name="Oval 2"/>
          <p:cNvSpPr/>
          <p:nvPr/>
        </p:nvSpPr>
        <p:spPr>
          <a:xfrm>
            <a:off x="3200400" y="1079640"/>
            <a:ext cx="3198960" cy="1166760"/>
          </a:xfrm>
          <a:prstGeom prst="ellipse">
            <a:avLst/>
          </a:prstGeom>
          <a:solidFill>
            <a:srgbClr val="8ca93e"/>
          </a:solidFill>
          <a:ln w="0">
            <a:noFill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ld Sphere of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52280" y="2743200"/>
            <a:ext cx="8839440" cy="3914640"/>
          </a:xfrm>
          <a:prstGeom prst="pi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The Now </a:t>
            </a:r>
            <a:r>
              <a:rPr b="0" i="1" lang="en-US" sz="4000" spc="-1" strike="noStrike" u="sng">
                <a:solidFill>
                  <a:srgbClr val="8ca93e"/>
                </a:solidFill>
                <a:uFillTx/>
                <a:latin typeface="Arial Black"/>
              </a:rPr>
              <a:t>Known</a:t>
            </a:r>
            <a:r>
              <a:rPr b="0" lang="en-US" sz="4000" spc="-1" strike="noStrike">
                <a:solidFill>
                  <a:srgbClr val="f6fa9c"/>
                </a:solidFill>
                <a:latin typeface="Arial Black"/>
              </a:rPr>
              <a:t> Un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80880" y="1217520"/>
            <a:ext cx="3527640" cy="1650600"/>
          </a:xfrm>
          <a:prstGeom prst="leftRightArrow">
            <a:avLst>
              <a:gd name="adj1" fmla="val 50000"/>
              <a:gd name="adj2" fmla="val 42546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c00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a9c"/>
                </a:solidFill>
                <a:latin typeface="Arial Black"/>
              </a:rPr>
              <a:t>The Hero-Now-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6fa9c"/>
                </a:solidFill>
                <a:uFillTx/>
                <a:latin typeface="Arial Black"/>
              </a:rPr>
              <a:t>Master of the Two World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581280" y="2438280"/>
            <a:ext cx="3273480" cy="1600200"/>
          </a:xfrm>
          <a:prstGeom prst="wedgeRoundRectCallout">
            <a:avLst>
              <a:gd name="adj1" fmla="val 64013"/>
              <a:gd name="adj2" fmla="val -1078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er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e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 am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c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ampbell03"/>
          <p:cNvPicPr/>
          <p:nvPr/>
        </p:nvPicPr>
        <p:blipFill>
          <a:blip r:embed="rId1">
            <a:lum bright="-6000"/>
          </a:blip>
          <a:srcRect l="70373" t="7573" r="5554" b="6571"/>
          <a:stretch/>
        </p:blipFill>
        <p:spPr>
          <a:xfrm>
            <a:off x="0" y="1706400"/>
            <a:ext cx="1967040" cy="5143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979080" y="2415240"/>
            <a:ext cx="4233600" cy="32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i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m and free i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the hero is the conscious vehicle of the terrible, wonderful Law of the Universe, whether his work be tha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ut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joc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85800" y="609480"/>
            <a:ext cx="7772400" cy="121932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Stage 17,</a:t>
            </a: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master of two worlds</a:t>
            </a:r>
            <a:r>
              <a:rPr b="0" lang="en-US" sz="3200" spc="-1" strike="noStrike">
                <a:solidFill>
                  <a:srgbClr val="f6fa9c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6fa9c"/>
                </a:solidFill>
                <a:uFillTx/>
                <a:latin typeface="Arial Black"/>
              </a:rPr>
              <a:t>Stage 1: Call to Adven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hera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announ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but not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omeone dark, loathly, terrifying, and/or unordi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a b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l is typically heard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someplace remo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for example, in a dark forest, near a great tree, beside a babbling spring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l promise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both treasure and dan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l require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tra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a distant land, forest, or kingdom somewhere underground, beneath the waves, above the sky, on a secret island, atop a lofty mountain—even into a profound dream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5"/>
          <p:cNvSpPr/>
          <p:nvPr/>
        </p:nvSpPr>
        <p:spPr>
          <a:xfrm>
            <a:off x="8305920" y="5181480"/>
            <a:ext cx="533160" cy="457200"/>
          </a:xfrm>
          <a:prstGeom prst="ellipse">
            <a:avLst/>
          </a:prstGeom>
          <a:solidFill>
            <a:srgbClr val="6f0564"/>
          </a:solidFill>
          <a:ln w="9360">
            <a:solidFill>
              <a:srgbClr val="6f0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20"/>
          <p:cNvPicPr/>
          <p:nvPr/>
        </p:nvPicPr>
        <p:blipFill>
          <a:blip r:embed="rId1"/>
          <a:srcRect l="18646" t="0" r="13560" b="0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biw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ampbell03"/>
          <p:cNvPicPr/>
          <p:nvPr/>
        </p:nvPicPr>
        <p:blipFill>
          <a:blip r:embed="rId1"/>
          <a:srcRect l="70373" t="7573" r="5554" b="6571"/>
          <a:stretch/>
        </p:blipFill>
        <p:spPr>
          <a:xfrm>
            <a:off x="0" y="3048120"/>
            <a:ext cx="148608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234240" y="2429280"/>
            <a:ext cx="4656960" cy="359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[is] a … moment,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piritual pa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, when complete, amounts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dying and bi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familiar life horizon has been outgrown; the old concepts, ideals, and emotional patterns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o longer 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 time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assing of a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hand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5800" y="533520"/>
            <a:ext cx="7772400" cy="1295280"/>
          </a:xfrm>
          <a:prstGeom prst="rect">
            <a:avLst/>
          </a:prstGeom>
          <a:solidFill>
            <a:srgbClr val="6f0564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mpbell says this about the </a:t>
            </a:r>
            <a:r>
              <a:rPr b="0" i="1" lang="en-US" sz="3200" spc="-1" strike="noStrike">
                <a:solidFill>
                  <a:srgbClr val="f6fa9c"/>
                </a:solidFill>
                <a:latin typeface="Arial Black"/>
              </a:rPr>
              <a:t>call to adventur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7" descr="gandalf01"/>
          <p:cNvPicPr/>
          <p:nvPr/>
        </p:nvPicPr>
        <p:blipFill>
          <a:blip r:embed="rId1"/>
          <a:srcRect l="10448" t="215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1048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a93e"/>
                </a:solidFill>
                <a:latin typeface="Arial Black"/>
              </a:rPr>
              <a:t>Remember Gandalf from </a:t>
            </a:r>
            <a:r>
              <a:rPr b="0" i="1" lang="en-US" sz="3600" spc="-1" strike="noStrike">
                <a:solidFill>
                  <a:srgbClr val="8ca93e"/>
                </a:solidFill>
                <a:latin typeface="Arial Black"/>
              </a:rPr>
              <a:t>The Lord of the Rings,</a:t>
            </a:r>
            <a:r>
              <a:rPr b="0" lang="en-US" sz="3600" spc="-1" strike="noStrike">
                <a:solidFill>
                  <a:srgbClr val="8ca93e"/>
                </a:solidFill>
                <a:latin typeface="Arial Black"/>
              </a:rPr>
              <a:t> who called first Bilbo and then Frodo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6fa9c"/>
                </a:solidFill>
                <a:uFillTx/>
                <a:latin typeface="Arial Black"/>
              </a:rPr>
              <a:t>Stage 2: Refusal of the Ca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rue heroe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at fir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use the adven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s of finally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accep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son gains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self-aware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son responds only to the deepest, highest, richest answers to problems faced in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s of always </a:t>
            </a:r>
            <a:r>
              <a:rPr b="0" i="1" lang="en-US" sz="2800" spc="-1" strike="noStrike">
                <a:solidFill>
                  <a:srgbClr val="f6fa9c"/>
                </a:solidFill>
                <a:latin typeface="Arial Black"/>
              </a:rPr>
              <a:t>refu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son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loses the power of affirmative 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ecomes a victim to be sa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362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ampbell, the person’s “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flowering wor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omes a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wasteland</a:t>
            </a:r>
            <a:r>
              <a:rPr b="0" lang="en-US" sz="2400" spc="-1" strike="noStrike">
                <a:solidFill>
                  <a:srgbClr val="f6fa9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dry stones and his life feels </a:t>
            </a:r>
            <a:r>
              <a:rPr b="0" i="1" lang="en-US" sz="2400" spc="-1" strike="noStrike">
                <a:solidFill>
                  <a:srgbClr val="f6fa9c"/>
                </a:solidFill>
                <a:latin typeface="Arial Black"/>
              </a:rPr>
              <a:t>meaningl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4:34:55Z</dcterms:created>
  <dc:creator>Robin L. Simmons</dc:creator>
  <dc:description>This PowerPoint presentation is ©2008 by Robin L. Simmons. All Rights Reserved.</dc:description>
  <dc:language>en-US</dc:language>
  <cp:lastModifiedBy>Mark R Lamura</cp:lastModifiedBy>
  <dcterms:modified xsi:type="dcterms:W3CDTF">2011-02-03T18:19:16Z</dcterms:modified>
  <cp:revision>58</cp:revision>
  <dc:subject>ENC 1102, Freshman Composition II</dc:subject>
  <dc:title>Joseph Campbell's Hero Cycle</dc:title>
</cp:coreProperties>
</file>